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287-504D-4521-B61C-26F0025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061-E080-4056-8228-030BA0C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C26-3A73-4B71-8595-DDA37F18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D59-1BD1-48CE-B6EC-C6AF1B06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834-ADA5-4872-ADEA-AC3F08D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0AF-A160-46C5-94BF-D25D216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38C-4432-47CF-BF2C-AFCEBD5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754-9382-46AC-B459-00837FBD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D08-1480-4609-9211-003D00F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A31-5093-4998-99B7-9DF2951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669-B0C4-4E38-B15F-3CEB559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D5B-0E5E-4E35-8CA3-4E7C437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86EC-71B9-4DCD-8F16-74BD975B1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80000" y="5734080"/>
            <a:ext cx="486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rancha Gutierrez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066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Walter Elias Disney  was born December 5, 1901 and died December 15, 1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 won many awards as a film producer, director, screenwriter and voice actor anim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 the co-founder (with his brother Roy O. Disney) of Walt Disney Productions, Disney became one of the best-known motion picture producers in the wor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404640"/>
            <a:ext cx="76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iography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907000">
            <a:off x="1979640" y="5805000"/>
            <a:ext cx="2448000" cy="8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235320" cy="414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867280" y="6021360"/>
            <a:ext cx="2475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alter Elias Disney*</a:t>
            </a:r>
            <a:endParaRPr b="1" lang="en-US" sz="1800" spc="1" strike="noStrike">
              <a:ln w="28440">
                <a:solidFill>
                  <a:srgbClr val="3366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key mouse is his most famous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t is a mouse that goes through lots of funny adven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 is normally with Minnie Mouse, a pretty female m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35280" y="476280"/>
            <a:ext cx="525780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ickey Mouse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493800">
            <a:off x="5940360" y="1268280"/>
            <a:ext cx="2772000" cy="27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20671200">
            <a:off x="4211280" y="3357720"/>
            <a:ext cx="2552760" cy="2552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109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ney soon began plans for a film feature in 193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he first film of the factory was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Snow White and the Seven Dwarf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ther famous film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Pinoc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Fantasia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B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His cartoon series include: 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Mickey Mouse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Donald Duck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Goofy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Pluto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476280"/>
            <a:ext cx="568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sney  Films*</a:t>
            </a:r>
            <a:endParaRPr b="1" lang="en-US" sz="1800" spc="1" strike="noStrike">
              <a:ln w="2844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20947200">
            <a:off x="6804000" y="27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 rot="20937600">
            <a:off x="4858920" y="3860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696000">
            <a:off x="6588000" y="4941360"/>
            <a:ext cx="206712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00360" y="1773360"/>
            <a:ext cx="361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uring 1949, Disney and his family moved to Los Ang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e wanted to build an amusement park here his employees spent time with their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he construction of Disneyland began in 195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he park opened its doors to the public on July 18, 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8000" y="260280"/>
            <a:ext cx="44672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sneyland*</a:t>
            </a:r>
            <a:endParaRPr b="1" lang="en-US" sz="1800" spc="1" strike="noStrike">
              <a:ln w="255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62872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232000" cy="171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737080" cy="178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79280" y="4437000"/>
            <a:ext cx="2448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556000" y="47628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The End*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8:31:39Z</dcterms:created>
  <dc:creator>Alumno57</dc:creator>
  <dc:description/>
  <dc:language>en-US</dc:language>
  <cp:lastModifiedBy>Alumno57</cp:lastModifiedBy>
  <dcterms:modified xsi:type="dcterms:W3CDTF">2008-06-10T11:11:21Z</dcterms:modified>
  <cp:revision>5</cp:revision>
  <dc:subject/>
  <dc:title>Diapositiva 1</dc:title>
</cp:coreProperties>
</file>